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99D9-4867-4B38-9B44-59A715319C8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E2F0-519F-42A7-9958-2EFF9670510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CA2B-A5C9-4A6A-8E43-0A0CEA57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71C5-B399-4FAF-96AA-54B7484E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BCFC-D099-4E05-840F-200EDBE87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334D-1763-4E43-A357-B827C610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2F0F-8BE7-4145-B726-3780287C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1CEC-EF9F-4A48-BD9E-7EB7DF65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9EFB-43A6-4DC5-827D-36573581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A77C-7143-400D-AD32-29371174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BF17-73E8-43CD-80CC-937003DC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BB61-BC2F-49EE-A0E3-CAB3DC4F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3841-E3C8-442C-BC84-C6A99B62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2E06-564F-4243-98EA-053E4F0E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F201-54B8-436B-8C27-AD5DB9309A5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858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Stereo perception on the iCu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ttangolo arrotondato 3"/>
          <p:cNvSpPr/>
          <p:nvPr/>
        </p:nvSpPr>
        <p:spPr>
          <a:xfrm>
            <a:off x="1104840" y="1441440"/>
            <a:ext cx="140652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alibri"/>
              </a:rPr>
              <a:t>CALIBR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arentesi graffa aperta 4"/>
          <p:cNvSpPr/>
          <p:nvPr/>
        </p:nvSpPr>
        <p:spPr>
          <a:xfrm>
            <a:off x="2832120" y="1298520"/>
            <a:ext cx="357120" cy="142884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1428840"/>
              <a:gd name="textAreaBottom" fmla="*/ 1419840 h 1428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asellaDiTesto 5"/>
          <p:cNvSpPr/>
          <p:nvPr/>
        </p:nvSpPr>
        <p:spPr>
          <a:xfrm>
            <a:off x="3128040" y="1517760"/>
            <a:ext cx="298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ens undistor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ntrinsic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Extrinsic parameters (R, 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ttangolo arrotondato 8"/>
          <p:cNvSpPr/>
          <p:nvPr/>
        </p:nvSpPr>
        <p:spPr>
          <a:xfrm>
            <a:off x="1117440" y="3513240"/>
            <a:ext cx="140652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alibri"/>
              </a:rPr>
              <a:t>RECTIFIC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Connettore 2 10"/>
          <p:cNvCxnSpPr/>
          <p:nvPr/>
        </p:nvCxnSpPr>
        <p:spPr>
          <a:xfrm>
            <a:off x="1830960" y="2513160"/>
            <a:ext cx="1080" cy="10008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Connettore 2 11"/>
          <p:cNvCxnSpPr/>
          <p:nvPr/>
        </p:nvCxnSpPr>
        <p:spPr>
          <a:xfrm>
            <a:off x="2544480" y="4059360"/>
            <a:ext cx="361080" cy="2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Rettangolo arrotondato 13"/>
          <p:cNvSpPr/>
          <p:nvPr/>
        </p:nvSpPr>
        <p:spPr>
          <a:xfrm>
            <a:off x="2928960" y="3524400"/>
            <a:ext cx="140652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STEREO MATCH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Connettore 2 14"/>
          <p:cNvCxnSpPr/>
          <p:nvPr/>
        </p:nvCxnSpPr>
        <p:spPr>
          <a:xfrm>
            <a:off x="4344480" y="4095720"/>
            <a:ext cx="361080" cy="2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Rettangolo arrotondato 15"/>
          <p:cNvSpPr/>
          <p:nvPr/>
        </p:nvSpPr>
        <p:spPr>
          <a:xfrm>
            <a:off x="4714920" y="3537000"/>
            <a:ext cx="140652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VISUAL ATTEN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Group 11"/>
          <p:cNvGrpSpPr/>
          <p:nvPr/>
        </p:nvGrpSpPr>
        <p:grpSpPr>
          <a:xfrm>
            <a:off x="33480" y="3421080"/>
            <a:ext cx="742680" cy="653760"/>
            <a:chOff x="33480" y="3421080"/>
            <a:chExt cx="742680" cy="653760"/>
          </a:xfrm>
        </p:grpSpPr>
        <p:sp>
          <p:nvSpPr>
            <p:cNvPr id="59" name="Rectangle 7"/>
            <p:cNvSpPr/>
            <p:nvPr/>
          </p:nvSpPr>
          <p:spPr>
            <a:xfrm>
              <a:off x="263880" y="3421080"/>
              <a:ext cx="512280" cy="410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8"/>
            <p:cNvSpPr/>
            <p:nvPr/>
          </p:nvSpPr>
          <p:spPr>
            <a:xfrm>
              <a:off x="186840" y="3498120"/>
              <a:ext cx="511920" cy="41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>
              <a:off x="110160" y="3574800"/>
              <a:ext cx="512280" cy="410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10"/>
            <p:cNvSpPr/>
            <p:nvPr/>
          </p:nvSpPr>
          <p:spPr>
            <a:xfrm>
              <a:off x="33480" y="3664800"/>
              <a:ext cx="511920" cy="41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Group 17"/>
          <p:cNvGrpSpPr/>
          <p:nvPr/>
        </p:nvGrpSpPr>
        <p:grpSpPr>
          <a:xfrm>
            <a:off x="23760" y="4132440"/>
            <a:ext cx="742680" cy="653760"/>
            <a:chOff x="23760" y="4132440"/>
            <a:chExt cx="742680" cy="653760"/>
          </a:xfrm>
        </p:grpSpPr>
        <p:sp>
          <p:nvSpPr>
            <p:cNvPr id="64" name="Rectangle 18"/>
            <p:cNvSpPr/>
            <p:nvPr/>
          </p:nvSpPr>
          <p:spPr>
            <a:xfrm>
              <a:off x="254160" y="4132440"/>
              <a:ext cx="512280" cy="41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Rectangle 19"/>
            <p:cNvSpPr/>
            <p:nvPr/>
          </p:nvSpPr>
          <p:spPr>
            <a:xfrm>
              <a:off x="177480" y="4209480"/>
              <a:ext cx="512280" cy="41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Rectangle 20"/>
            <p:cNvSpPr/>
            <p:nvPr/>
          </p:nvSpPr>
          <p:spPr>
            <a:xfrm>
              <a:off x="100440" y="4286160"/>
              <a:ext cx="512280" cy="41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Rectangle 21"/>
            <p:cNvSpPr/>
            <p:nvPr/>
          </p:nvSpPr>
          <p:spPr>
            <a:xfrm>
              <a:off x="23760" y="4376160"/>
              <a:ext cx="512280" cy="41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8" name="Connettore 2 26"/>
          <p:cNvCxnSpPr/>
          <p:nvPr/>
        </p:nvCxnSpPr>
        <p:spPr>
          <a:xfrm>
            <a:off x="810720" y="3727440"/>
            <a:ext cx="288360" cy="2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Connettore 2 27"/>
          <p:cNvCxnSpPr/>
          <p:nvPr/>
        </p:nvCxnSpPr>
        <p:spPr>
          <a:xfrm>
            <a:off x="810720" y="4355640"/>
            <a:ext cx="288360" cy="25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Connettore 2 28"/>
          <p:cNvCxnSpPr/>
          <p:nvPr/>
        </p:nvCxnSpPr>
        <p:spPr>
          <a:xfrm>
            <a:off x="6175440" y="4095720"/>
            <a:ext cx="358920" cy="2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Rettangolo arrotondato 29"/>
          <p:cNvSpPr/>
          <p:nvPr/>
        </p:nvSpPr>
        <p:spPr>
          <a:xfrm>
            <a:off x="6572160" y="3548160"/>
            <a:ext cx="140652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3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TRACK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CasellaDiTesto 30"/>
          <p:cNvSpPr/>
          <p:nvPr/>
        </p:nvSpPr>
        <p:spPr>
          <a:xfrm>
            <a:off x="4017960" y="550872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RANGE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aetta 31"/>
          <p:cNvSpPr/>
          <p:nvPr/>
        </p:nvSpPr>
        <p:spPr>
          <a:xfrm flipH="1" flipV="1" rot="981000">
            <a:off x="4277520" y="4180680"/>
            <a:ext cx="428760" cy="1357920"/>
          </a:xfrm>
          <a:prstGeom prst="lightningBol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asellaDiTesto 32"/>
          <p:cNvSpPr/>
          <p:nvPr/>
        </p:nvSpPr>
        <p:spPr>
          <a:xfrm>
            <a:off x="5488920" y="551484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3D COORDIN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aetta 33"/>
          <p:cNvSpPr/>
          <p:nvPr/>
        </p:nvSpPr>
        <p:spPr>
          <a:xfrm flipH="1" flipV="1" rot="981000">
            <a:off x="6138720" y="4187160"/>
            <a:ext cx="428760" cy="1357200"/>
          </a:xfrm>
          <a:prstGeom prst="lightningBol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Connettore 2 34"/>
          <p:cNvCxnSpPr/>
          <p:nvPr/>
        </p:nvCxnSpPr>
        <p:spPr>
          <a:xfrm>
            <a:off x="8079840" y="4095720"/>
            <a:ext cx="359640" cy="2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CasellaDiTesto 35"/>
          <p:cNvSpPr/>
          <p:nvPr/>
        </p:nvSpPr>
        <p:spPr>
          <a:xfrm>
            <a:off x="7437960" y="5514840"/>
            <a:ext cx="15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YE AND HE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aetta 36"/>
          <p:cNvSpPr/>
          <p:nvPr/>
        </p:nvSpPr>
        <p:spPr>
          <a:xfrm flipH="1" flipV="1" rot="981000">
            <a:off x="8043120" y="4185360"/>
            <a:ext cx="428760" cy="1357920"/>
          </a:xfrm>
          <a:prstGeom prst="lightningBol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07:25:18Z</dcterms:created>
  <dc:creator>Utente Windows</dc:creator>
  <dc:description/>
  <dc:language>en-US</dc:language>
  <cp:lastModifiedBy>Utente Windows</cp:lastModifiedBy>
  <dcterms:modified xsi:type="dcterms:W3CDTF">2009-07-29T13:04:25Z</dcterms:modified>
  <cp:revision>6</cp:revision>
  <dc:subject/>
  <dc:title>Stereo perception on the iCub</dc:title>
</cp:coreProperties>
</file>